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11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B18F-BB22-4017-827A-49EA45E20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4792-284E-4158-9F5A-5214C60CC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B5FF-0369-4271-ADC1-88980D10F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EDF6-C661-44A1-86FC-410718DA8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A731-C013-4910-AA2C-0F27263A7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5EF8-C6A2-4038-B3F7-A6EE620BF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97E9-719E-47E7-8C65-2B7E34DC8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EA90-9B4B-48CF-9EAC-D1D9EC20F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1F24-9009-40A2-83D4-113EEE472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10DB-3EEA-4E9B-8683-82753CD7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CB8B-FD29-4872-A5A1-BE8619806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CA6A-7EFF-41EF-8BDC-31C1FA227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F63AE-F784-46A3-9279-368775619D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714240" y="428400"/>
            <a:ext cx="778032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2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611280" y="620640"/>
            <a:ext cx="7777080" cy="44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«Истина должна быть пережита, а не препода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Чжуан-цзы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«В игровом мироощущении присутствует ист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более глубокая, чем в рассудочном взгляде на ми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А. Эйнштейн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ЛОВАЯ ИГРА  КАК  ЭФФЕКТИВНАЯ ФОРМА ФОРМИРОВАНИЯ И ОТСЛЕЖИВАНИЯ ПРОФЕССИОНАЛЬНОЙ КОМПЕТЕНТНОСТИ ПЕДАГОГ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Фиалкина Татьяна Викторов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МБУ ЦРО г.Чайк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6560" y="44280"/>
            <a:ext cx="757260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Bookman Old Style"/>
              </a:rPr>
              <a:t>«Геркулесов труд, подвиг  или матрица успех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2"/>
          <a:srcRect l="0" t="5289" r="0" b="4154"/>
          <a:stretch/>
        </p:blipFill>
        <p:spPr>
          <a:xfrm>
            <a:off x="0" y="1701720"/>
            <a:ext cx="914400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2560" y="549360"/>
            <a:ext cx="728676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Bookman Old Style"/>
              </a:rPr>
              <a:t>«Геркулесов труд, или авгиевы конюшни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5" descr="http://img1.liveinternet.ru/images/attach/c/4/78/672/78672605_7_1.jpg"/>
          <p:cNvPicPr/>
          <p:nvPr/>
        </p:nvPicPr>
        <p:blipFill>
          <a:blip r:embed="rId2"/>
          <a:srcRect l="0" t="0" r="0" b="6135"/>
          <a:stretch/>
        </p:blipFill>
        <p:spPr>
          <a:xfrm>
            <a:off x="0" y="2448000"/>
            <a:ext cx="913464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5280" y="765000"/>
            <a:ext cx="771516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Bookman Old Style"/>
              </a:rPr>
              <a:t>«Новый подвиг Геракл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2"/>
          <a:stretch/>
        </p:blipFill>
        <p:spPr>
          <a:xfrm>
            <a:off x="0" y="2530440"/>
            <a:ext cx="9144000" cy="43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original_mirror"/>
          <p:cNvPicPr/>
          <p:nvPr/>
        </p:nvPicPr>
        <p:blipFill>
          <a:blip r:embed="rId2"/>
          <a:stretch/>
        </p:blipFill>
        <p:spPr>
          <a:xfrm>
            <a:off x="7451640" y="189000"/>
            <a:ext cx="1170000" cy="8776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87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Bookman Old Style"/>
              </a:rPr>
              <a:t>Индивидуальные рол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68360" y="1125360"/>
          <a:ext cx="8064360" cy="4237200"/>
        </p:xfrm>
        <a:graphic>
          <a:graphicData uri="http://schemas.openxmlformats.org/drawingml/2006/table">
            <a:tbl>
              <a:tblPr/>
              <a:tblGrid>
                <a:gridCol w="2808360"/>
                <a:gridCol w="5256000"/>
              </a:tblGrid>
              <a:tr h="1015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Bookman Old Style"/>
                        </a:rPr>
                        <a:t>«Новатор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Bookman Old Style"/>
                        </a:rPr>
                        <a:t>отстаивающий предлагаемые инновационные идеи - решен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«Сподвижник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опутствующий новатору; проникшись идеей новатора, помогает защитить эту идею новатору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Bookman Old Style"/>
                        </a:rPr>
                        <a:t>«Консерватор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Bookman Old Style"/>
                        </a:rPr>
                        <a:t>опровергающий или подвергающий критике предлагаемые идеи - решения.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«Сомневающийся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опутствующий консерватору, осторожно, с опаской относится ко всему новому, обозначает рис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1"/>
          <p:cNvSpPr/>
          <p:nvPr/>
        </p:nvSpPr>
        <p:spPr>
          <a:xfrm>
            <a:off x="611280" y="1689120"/>
            <a:ext cx="7786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группа экспертов - продемонстрировала матрицу успех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группа экспертов - высказала свое мнение: действительно произошел ли переход начальной школы на ФГОС или пока формально, имитацион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группа  -озвучила проблемы и перспективы развития начальной шко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1690920" y="692280"/>
            <a:ext cx="52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Выступление эксперт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Object 2" descr=""/>
          <p:cNvPicPr/>
          <p:nvPr/>
        </p:nvPicPr>
        <p:blipFill>
          <a:blip r:embed="rId2"/>
          <a:stretch/>
        </p:blipFill>
        <p:spPr>
          <a:xfrm>
            <a:off x="1403280" y="549360"/>
            <a:ext cx="640872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"/>
          <p:cNvSpPr/>
          <p:nvPr/>
        </p:nvSpPr>
        <p:spPr>
          <a:xfrm>
            <a:off x="642960" y="511560"/>
            <a:ext cx="7786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«Доводы, до которых человек додумывается сам, обычно, убеждают его больше, нежели те, которые пришли в голову другим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(Б. Паскаль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571680" y="3292920"/>
            <a:ext cx="7858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«Если Вы хотите иметь то, чего никогда не имели, надо сделать то, чего вы никогда не делали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Прямоугольник 3" descr=""/>
          <p:cNvPicPr/>
          <p:nvPr/>
        </p:nvPicPr>
        <p:blipFill>
          <a:blip r:embed="rId2"/>
          <a:stretch/>
        </p:blipFill>
        <p:spPr>
          <a:xfrm>
            <a:off x="212760" y="2225520"/>
            <a:ext cx="871848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14240" y="428400"/>
            <a:ext cx="778032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5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-5317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Box 3"/>
          <p:cNvSpPr/>
          <p:nvPr/>
        </p:nvSpPr>
        <p:spPr>
          <a:xfrm>
            <a:off x="755640" y="620640"/>
            <a:ext cx="720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7"/>
          <p:cNvSpPr/>
          <p:nvPr/>
        </p:nvSpPr>
        <p:spPr>
          <a:xfrm>
            <a:off x="900000" y="795600"/>
            <a:ext cx="734400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Игр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форма деятельности в условных ситуациях, направлен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воссоздание и усвоение общественного опыта, зафиксированного в социально закрепленных способах осуществления предметных действий, в предметах культуры и нау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Психологический словарь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14240" y="428400"/>
            <a:ext cx="778032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9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755640" y="1700280"/>
            <a:ext cx="7201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это форма деятельности людей, имитирующая те или иные практические ситуации, одно из средств активизации учебного процесса в системе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Скругленный прямоугольник 6"/>
          <p:cNvSpPr/>
          <p:nvPr/>
        </p:nvSpPr>
        <p:spPr>
          <a:xfrm>
            <a:off x="2340000" y="620640"/>
            <a:ext cx="4392720" cy="72072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Деловая игра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4700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4"/>
          <p:cNvSpPr/>
          <p:nvPr/>
        </p:nvSpPr>
        <p:spPr>
          <a:xfrm>
            <a:off x="1619280" y="571680"/>
            <a:ext cx="5616720" cy="8474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словия для совместн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5"/>
          <p:cNvSpPr/>
          <p:nvPr/>
        </p:nvSpPr>
        <p:spPr>
          <a:xfrm>
            <a:off x="1633680" y="1643040"/>
            <a:ext cx="5616360" cy="7239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ближен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игровых условий к реаль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6"/>
          <p:cNvSpPr/>
          <p:nvPr/>
        </p:nvSpPr>
        <p:spPr>
          <a:xfrm>
            <a:off x="1692360" y="2571840"/>
            <a:ext cx="5543640" cy="7524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оздание целостного представления о пробле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7"/>
          <p:cNvSpPr/>
          <p:nvPr/>
        </p:nvSpPr>
        <p:spPr>
          <a:xfrm>
            <a:off x="1714680" y="3571920"/>
            <a:ext cx="5543280" cy="7524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обилизация опыта, компетент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9"/>
          <p:cNvSpPr/>
          <p:nvPr/>
        </p:nvSpPr>
        <p:spPr>
          <a:xfrm>
            <a:off x="1714680" y="4538520"/>
            <a:ext cx="5543280" cy="7527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ворческая активность субъ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371600" y="2276640"/>
            <a:ext cx="615312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Выноска со стрелкой вниз 4"/>
          <p:cNvSpPr/>
          <p:nvPr/>
        </p:nvSpPr>
        <p:spPr>
          <a:xfrm>
            <a:off x="1857240" y="2000160"/>
            <a:ext cx="5500800" cy="1500120"/>
          </a:xfrm>
          <a:prstGeom prst="downArrowCallout">
            <a:avLst>
              <a:gd name="adj1" fmla="val 24992"/>
              <a:gd name="adj2" fmla="val 25006"/>
              <a:gd name="adj3" fmla="val 25000"/>
              <a:gd name="adj4" fmla="val 6497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шение комплексных задач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кругленный прямоугольник 5"/>
          <p:cNvSpPr/>
          <p:nvPr/>
        </p:nvSpPr>
        <p:spPr>
          <a:xfrm>
            <a:off x="3203640" y="3570120"/>
            <a:ext cx="2654280" cy="11448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ммуника-тивны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кругленный прямоугольник 6"/>
          <p:cNvSpPr/>
          <p:nvPr/>
        </p:nvSpPr>
        <p:spPr>
          <a:xfrm>
            <a:off x="5908680" y="3570120"/>
            <a:ext cx="2521080" cy="11448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иагности-чески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кругленный прямоугольник 7"/>
          <p:cNvSpPr/>
          <p:nvPr/>
        </p:nvSpPr>
        <p:spPr>
          <a:xfrm>
            <a:off x="500040" y="3570120"/>
            <a:ext cx="2643120" cy="11448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разова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льны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10"/>
          <p:cNvSpPr/>
          <p:nvPr/>
        </p:nvSpPr>
        <p:spPr>
          <a:xfrm>
            <a:off x="826920" y="620640"/>
            <a:ext cx="7274160" cy="129564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«Дай человеку рыбу, и он будет сытым один день. Научи человека ловить рыбу, и он будет сытым всю жизнь» (Восточная мудрос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714240" y="428400"/>
            <a:ext cx="778032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6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Скругленный прямоугольник 6"/>
          <p:cNvSpPr/>
          <p:nvPr/>
        </p:nvSpPr>
        <p:spPr>
          <a:xfrm>
            <a:off x="755640" y="620640"/>
            <a:ext cx="4392720" cy="72072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Коллоквиум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4" descr="1156098-hercules.jpg"/>
          <p:cNvPicPr/>
          <p:nvPr/>
        </p:nvPicPr>
        <p:blipFill>
          <a:blip r:embed="rId2"/>
          <a:stretch/>
        </p:blipFill>
        <p:spPr>
          <a:xfrm>
            <a:off x="6000840" y="500040"/>
            <a:ext cx="2860560" cy="4824360"/>
          </a:xfrm>
          <a:prstGeom prst="rect">
            <a:avLst/>
          </a:prstGeom>
          <a:ln w="0">
            <a:noFill/>
          </a:ln>
        </p:spPr>
      </p:pic>
      <p:sp>
        <p:nvSpPr>
          <p:cNvPr id="69" name="TextBox 3"/>
          <p:cNvSpPr/>
          <p:nvPr/>
        </p:nvSpPr>
        <p:spPr>
          <a:xfrm>
            <a:off x="428760" y="1700280"/>
            <a:ext cx="600048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«Завтра начинается сегодня, или остановка по требованию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Деловая игра «Геракл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4" descr="Hercules_KH.png"/>
          <p:cNvPicPr/>
          <p:nvPr/>
        </p:nvPicPr>
        <p:blipFill>
          <a:blip r:embed="rId2"/>
          <a:stretch/>
        </p:blipFill>
        <p:spPr>
          <a:xfrm>
            <a:off x="5586480" y="2205000"/>
            <a:ext cx="3557520" cy="4653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Вопросы для  обсуждения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10920" y="907560"/>
            <a:ext cx="6985080" cy="50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Calibri"/>
              </a:rPr>
              <a:t>Какие подвиги мы уже совершили, в чем прорвались?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Calibri"/>
              </a:rPr>
              <a:t>Чем можем гордиться?  А какие подвиги нам еще предстоит совершить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ff"/>
                </a:solidFill>
                <a:latin typeface="Calibri"/>
              </a:rPr>
              <a:t>Каковы наши перспективы? Что нас ждет в будущем?</a:t>
            </a:r>
            <a:r>
              <a:rPr b="1" lang="ru-RU" sz="26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Calibri"/>
              </a:rPr>
              <a:t>А действительно ли произошел  переход на стандарты или пока формально, имитационно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678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Bookman Old Style"/>
              </a:rPr>
              <a:t>Этапы проведения</a:t>
            </a:r>
            <a:br>
              <a:rPr sz="3200"/>
            </a:br>
            <a:r>
              <a:rPr b="1" i="1" lang="ru-RU" sz="3200" spc="-1" strike="noStrike">
                <a:solidFill>
                  <a:srgbClr val="0000ff"/>
                </a:solidFill>
                <a:latin typeface="Bookman Old Style"/>
              </a:rPr>
              <a:t>игры «Геракл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755280" y="1916280"/>
            <a:ext cx="8388360" cy="26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Вхождение в игровую ситуаци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Собственно игр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Выход из игровой ситу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index"/>
          <p:cNvPicPr/>
          <p:nvPr/>
        </p:nvPicPr>
        <p:blipFill>
          <a:blip r:embed="rId2"/>
          <a:stretch/>
        </p:blipFill>
        <p:spPr>
          <a:xfrm>
            <a:off x="6848640" y="3500280"/>
            <a:ext cx="1466640" cy="17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3" descr="1239353216_1195400938_0lik.ru_hercules_35.jpg"/>
          <p:cNvPicPr/>
          <p:nvPr/>
        </p:nvPicPr>
        <p:blipFill>
          <a:blip r:embed="rId2"/>
          <a:stretch/>
        </p:blipFill>
        <p:spPr>
          <a:xfrm>
            <a:off x="6227640" y="1844640"/>
            <a:ext cx="2048040" cy="30765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76360" y="476280"/>
            <a:ext cx="61149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Bookman Old Style"/>
              </a:rPr>
              <a:t>Рол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900000" y="1125360"/>
            <a:ext cx="61200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Bookman Old Style"/>
              </a:rPr>
              <a:t>«теоретики-аналитики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Bookman Old Style"/>
              </a:rPr>
              <a:t>«диагносты-практики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Bookman Old Style"/>
              </a:rPr>
              <a:t>«администраторы- управленцы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Bookman Old Style"/>
              </a:rPr>
              <a:t>«визуалисты - импровизаторы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Bookman Old Style"/>
              </a:rPr>
              <a:t>«эксперты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6T09:34:19Z</dcterms:created>
  <dc:creator>Acer</dc:creator>
  <dc:description/>
  <dc:language>en-US</dc:language>
  <cp:lastModifiedBy>victor</cp:lastModifiedBy>
  <dcterms:modified xsi:type="dcterms:W3CDTF">2018-10-27T12:33:56Z</dcterms:modified>
  <cp:revision>93</cp:revision>
  <dc:subject/>
  <dc:title>Слайд 1</dc:title>
</cp:coreProperties>
</file>